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E57-D538-456D-98D6-C64B7A2C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BD3-5520-4F01-9DB1-D7FCBC2B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713-17B0-4E82-8BD5-ACBFFC35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BA6-0041-4902-AE32-263C988E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66B7-B5AD-4BC0-B690-2A9DBA82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FF78-8ECF-40A4-857B-C6049B26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142A-C4DC-45DE-A64D-CACF9A14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D780-8309-408D-BC90-C2186C21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FE1B-9268-4829-B624-496A38B5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FB5F-6B97-4E00-96FD-ACDA1D31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24B-F7A8-42E3-B68A-E045EEDF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020-9E9A-47BE-AB74-9B6FD06C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EE8F-B1FA-46FF-8A67-DD9C0438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42C8-4070-4444-84BE-6530E631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5E46-7D7A-47AD-A503-E3EC0CE8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FC09-39F1-4473-B200-71644E34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1243-FDDB-4353-9275-46272BA5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628A-5B72-4E77-8B30-ECEB360A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050C-CE7A-4611-BB44-50AEEFF8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4CDF-ECE8-472A-AC6A-247AB2AF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C38D-EEA4-4532-B4C0-F85FC36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0255-B0C2-4659-919B-5FA51E8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5E5-9229-4C98-B77F-524EBF58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E316-DCF4-4F88-B3EA-E91FBF14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B15A-1E16-471A-BAE4-FC00BA4A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D47C-869C-486F-95E9-C91416D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359D6-B5BE-4748-8E56-80C48CD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0F64-76CA-454E-88E2-17C05C23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4E69-DD84-441D-A095-A5A8289C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3DD8-FB6F-47A3-9F7B-E1FF6334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F06F-B807-4088-9415-ECC55808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6B0E-FFEE-4D5A-A972-81FEEC32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F357-40AF-4D10-8405-1AF3B131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2C0-5D1C-49B0-9F27-DB79F41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A0BF-07A3-4843-92A4-6B26459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2F89F-5AC1-4819-81F7-ED10AC4C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C0E1D-3003-4D13-B60E-FF533E37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7B76-ACB5-4D18-B6E7-056A248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5585D-81B4-4ACB-A407-F4465E2D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9027-39B7-49F2-AF42-A29A19D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CFCA3-93E7-4333-AED4-809F7838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CEA8-BFAA-40A3-A07E-5346039A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74B4-49A8-4823-9EC4-4BBBA2B6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F9674-2A2A-4D6D-9F28-BF67A32E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5BF-8E53-400B-82ED-B28B2B6B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9812-782A-473F-AD3C-62EACCE9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4013-1D7A-47D2-A62F-99235AC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ED1D-F100-4CD9-B990-41DC2C6B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9318D-D2D2-4AF3-9A2F-0F0F844C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18D4-DB9E-441C-A086-5B786716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76778-2D64-473B-A731-0E41CB03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A351-3926-4777-A8FA-5773E33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8DD8-DFBB-4E1C-A6CE-A18655B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9BB2-25D2-484F-AE69-2C3F904D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CC3C2-B011-46A7-921B-40B66A36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66D-26FE-4888-A1F5-A2E1A167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3D5FC-DEB9-4A83-A0BD-B6374BC2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EDD-AEAC-4DBF-923B-0C3CCFA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C04-0A90-4BA4-839E-15609DFF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B39-7CDA-48D4-BBDD-8027B7D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BF6-4A52-46CE-8415-9FBEF5F7F8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8ED-3363-41A8-9D99-7545F970AB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8D42-972B-4229-B4A5-99DBD22BB0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3362-D598-456C-B6FE-89C3FC2031BB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609D-A042-42B9-BCEA-A0DA8DEF6E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Debating the cas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8200" y="2386080"/>
            <a:ext cx="65102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tion 2 – answering the cas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) Case uniquenes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vantages have to be unique just like disadvantages have to be uniqu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there a problem now the affirmative is needed to addres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economic collapse inevitable now? If not, do we need mass transit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global warming inevitable now? If not, do we have to reduce carbon emission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important part of case debate, negative cannot win without cas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niquenes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ust like disadvantages, dates mat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lpful when going for a disadvantage because it puts the credibility of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2AR impact calculus in doub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) Impact defens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the affirmative impacts as bad as they claim them to be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there other things that will prevent this conflict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y will the conflict not escalate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at has happened in the past in similar situation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asy research to do, punish teams for reading bad/unqualifie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mpact evide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3) Alternate causaliti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the affirmative the only policy needed to prevent a certai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mpact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useful against affs that claim to solve huge impac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 their evidence to find the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ample: US economy is affected by stock markets, consumer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pending, investor confidence, employment rate, wages, housing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rket, innovation, import/export ratio, immigration, agriculture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tc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4) Solvency take-ou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es the affirmative plan actually solve the harm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ow is the plan implemented? Do people listen to the plan? Is ther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forcement? Is there verification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ow bad the affirmative’s impacts are don’t matter if voting for th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lan doesn’t address those impacts effective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5) Case tur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ffensive argument that the affirmative plan actually causes the impact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y are trying to sto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ampl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AC says that building high-speed rail is good because stimulus investment is key to prevent economic collapse by making up for low dem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NC says that stimulus spending COLLAPSES the economy by decreasing market efficienc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pare – important to make a comparison between the reasons spend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good for the economy and the reasons it is bad for the econom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bigger? Which is more important? Which is faster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6) Case turns (external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 disadvantages on the case about why the affirmative causes other ba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at makes it different than a disadvantage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) Uniqueness – often not read in 1NC, less of an issue/important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ques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2) Smaller impac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3) Won’t change/develop much because of few link/impact stor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ti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) Often undercovered by the 2A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2) Can be hidden in a larger case deba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3) Interacts with other case arguments bet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Negative block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ad more evide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Keep the debate clean, labeled, and compartmentaliz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very impact must be answer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n’t lose sight of of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ick your best turn and blow it u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ntrol terminal uniquenes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N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with uniquenes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n’t overextend yourself on of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ver your bas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e-empt the 2A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tion 3 – defending the cas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tion 1 – set up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ffirmative prepar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ough 1AC and write out a list of every possible negativ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spo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gative case answers are very predictable and should mostly b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nswered by 1AC ca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AC notes lis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rite out the warrants to every single card in the 1AC and keep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at on a separate piece of paper in the first pocket of your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ccord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o extend argu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gument, warrant, implication statement, cit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gument – claim established in the 1A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rant – why is this particular argument tru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mplication statement – comparatively, why is your argument superior to th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lternat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ation – author nam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ample: US-China war will escalate to nuclear use – concerns over national identit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sure irrational escalation where prestige becomes more important tha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conomic concerns – this outweighs any new round of small talks that don’t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undamentally change relations – extend Glaser, he’s a PolSci Prof at Georg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shing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o extend argu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velop a code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-3 word reference to critical arguments in the 1AC that will b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d consistent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every extension to an argument with the code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llows you to make new arguments in rebutt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o extend argu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en should you read new 2AC cards on cas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are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xus ques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f you blow it off, they’ll blow it u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vidence-intensive ques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guments you may not be on the side of truth of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A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n’t give a 2A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de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ference key authors, phrases, and idea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Keep the debate in order but start with your best of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xus ques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Know your evidence ca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A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with uniqueness – control the inevitability of what is going to occur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ow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aint the picture of the status quo/world in which the judge doesn’t vote aff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don’t need a lot of advantages/argumen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one impact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) Go deep on the explan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2) Compare it to the rest of the debate/their of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3) Win it clean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cognize the arguments that don’t really mat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tion 4 – the five part metho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ntr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Metho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F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XPLAI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VALUAT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NSW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MPAC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n the affirmativ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al of the affirmative is to prov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lan is better than the status qu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lan is better than a competing policy op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AC is your Lif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osing case means you have lost the deba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AC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ruc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herenc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rms/Advant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lvenc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) Inherenc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finition – an affirmative is inherent if they prove the plan has not been done y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herency is important becaus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bating non-inherent policies doesn’t make s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becomes impossible to be negat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) Harms/Advantag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finition – why the affirmative is desira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re is a problem in the status quo that has not been address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ailure to address this problem will cause something terri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) Solvenc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finition – what does the affirmative plan do to prevent the harms from occur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vantages don’t matter if the plan doesn’t solve th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n the negativ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al of the negative is to prov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status quo is preferable to doing the pla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competing policy option is preferable to doing the pla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ifficult to win debates if you have not talked about the 1A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vantages of specific debates and argumen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NC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very 1NC on case should be different because every 1AC is differ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cus on attacking harms/advantages and solvenc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x between offense and de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x between analytical arguments and evide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2:19:39Z</dcterms:created>
  <dc:creator>Andres</dc:creator>
  <dc:description/>
  <dc:language>en-US</dc:language>
  <cp:lastModifiedBy>The Adams Family</cp:lastModifiedBy>
  <dcterms:modified xsi:type="dcterms:W3CDTF">2012-08-29T13:15:23Z</dcterms:modified>
  <cp:revision>5</cp:revision>
  <dc:subject/>
  <dc:title>Debating the case</dc:title>
</cp:coreProperties>
</file>